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89E-BFE6-4571-A96F-6E071A61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FD7-4269-42C7-96A3-27830A08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B79-4A96-4AC7-9F8F-01BBE54E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9D3-242F-4ECB-86CA-A1DB6ED2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B9245-792C-42C2-AD14-CCC1DFBC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145D2-BD2A-45FA-B094-2E834EED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C72B0-799F-4005-964F-C3648ACE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42C15-F041-419E-A72F-15F3D182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54DFE-F4C5-410F-BA88-9C622B7C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364E4-6603-4C19-9192-1765EDCE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7B304-C4A2-452F-AC12-90C932CD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743-5225-4DA8-897D-B79BF044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7E05C-E048-47D1-BD76-38933B78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9897D-48BA-45B2-B7FB-C2369F8D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D5AB6-D7BF-4A29-ABB8-7430E90C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45486-4B16-4F03-A792-49B6E062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372C7-2CF1-4F7A-B8D7-BB94CEA2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289-1E43-4D0A-A1AC-7A14EB3D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CFD-FA15-476A-899F-6C43DED3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C83-014D-4C5F-94F4-2790AB0F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AAA-F0CD-40D6-A49C-480E2951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6A4-1F1E-4BDA-953E-D88584E2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B17-FC59-43E1-934F-BE808A45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AF7-8269-46D4-88DB-859CB161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A865-BAEC-4B4B-8A59-D38188155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FD31-A685-485E-9159-B5698FC62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ac00"/>
                </a:solidFill>
                <a:latin typeface="Tahoma"/>
              </a:rPr>
              <a:t>Малышева Кристин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00"/>
                </a:solidFill>
                <a:latin typeface="Tahoma"/>
              </a:rPr>
              <a:t>Ученица                   Башкирской гимназии №25 г.Салав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244520"/>
            <a:ext cx="8229600" cy="30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ac00"/>
                </a:solidFill>
                <a:latin typeface="Tahoma"/>
              </a:rPr>
              <a:t>«Профессионально - трудовые стратегии современной молодежи Башкортостан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c00"/>
                </a:solidFill>
                <a:latin typeface="Tahoma"/>
              </a:rPr>
              <a:t>Объекты исследов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00"/>
                </a:solidFill>
                <a:latin typeface="Tahoma"/>
              </a:rPr>
              <a:t>работающая молодежь Башкортостана, находящейся в процессе выбора профессионально-трудового пути, формирования ценностной систем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c00"/>
                </a:solidFill>
                <a:latin typeface="Tahoma"/>
              </a:rPr>
              <a:t>Предметы исследов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00"/>
                </a:solidFill>
                <a:latin typeface="Tahoma"/>
              </a:rPr>
              <a:t>социальные особенности и экономические проблемы профессионально-трудовых стратегий молодежи на современном рынке труда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c00"/>
                </a:solidFill>
                <a:latin typeface="Tahoma"/>
              </a:rPr>
              <a:t>Цель исследов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00"/>
                </a:solidFill>
                <a:latin typeface="Tahoma"/>
              </a:rPr>
              <a:t>Изучить и анализировать  особенности профессионально-трудовых стратегий молодежи на современном рынке тру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00"/>
                </a:solidFill>
                <a:latin typeface="Tahoma"/>
              </a:rPr>
              <a:t>Изучить и анализировать проблемы взаимоотношения между работающей молодежью и работодателя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00"/>
                </a:solidFill>
                <a:latin typeface="Tahoma"/>
              </a:rPr>
              <a:t>сформулировать практические рекоменд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c00"/>
                </a:solidFill>
                <a:latin typeface="Tahoma"/>
              </a:rPr>
              <a:t>Основные 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c00"/>
                </a:solidFill>
                <a:latin typeface="Tahoma"/>
              </a:rPr>
              <a:t>выявить реальное содержание профессионально-трудовых ценностей современной молодеж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c00"/>
                </a:solidFill>
                <a:latin typeface="Tahoma"/>
              </a:rPr>
              <a:t>выделить устойчивые ценностные доминанты в сознании молодежи, влияющие на характер профессионально-трудовых стратег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c00"/>
                </a:solidFill>
                <a:latin typeface="Tahoma"/>
              </a:rPr>
              <a:t>исследовать состояние и перспективы развития современного молодежного рынка тру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c00"/>
                </a:solidFill>
                <a:latin typeface="Tahoma"/>
              </a:rPr>
              <a:t>охарактеризовать особенности профессионально-трудовых стратегий современной молодеж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imes New Roman"/>
                <a:ea typeface="Times New Roman"/>
              </a:rPr>
              <a:t>Таблица 1 Ответы на вопрос «Каких правил, по Вашему мнению, следует придерживаться в нашей сегодняшней жизни, чтобы преуспеть в профессиональном плане?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8000" y="1341360"/>
          <a:ext cx="8820000" cy="5327640"/>
        </p:xfrm>
        <a:graphic>
          <a:graphicData uri="http://schemas.openxmlformats.org/drawingml/2006/table">
            <a:tbl>
              <a:tblPr/>
              <a:tblGrid>
                <a:gridCol w="4319640"/>
                <a:gridCol w="1476360"/>
                <a:gridCol w="1439640"/>
                <a:gridCol w="1584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-прави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ее согласе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ее не согласе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удняюсь ответи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 делать лишь то, что тебе выгод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о верить в порядочность люд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дует уклоняться от уплаты налог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др тот, кот готов приспосабливаться к любой ситуации, даже если ему не по душ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получить взятку, если есть гарантия, что никто об этом не узна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их людей больше, чем плох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 решения важных личных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 можно пренебречь приличиями, нравственными нормам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ательно вступить в выгодный брак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лективные сплоченные действия ничего не решают, каждый должен сам решать свои проблемы, рассчитывать только на себ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о следовать советам родителей—они зла не пожелают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c00"/>
                </a:solidFill>
                <a:latin typeface="Tahoma"/>
              </a:rPr>
              <a:t>Приложение 1</a:t>
            </a:r>
            <a:br>
              <a:rPr sz="4000"/>
            </a:br>
            <a:r>
              <a:rPr b="0" lang="en-US" sz="3600" spc="-1" strike="noStrike">
                <a:solidFill>
                  <a:srgbClr val="00ac00"/>
                </a:solidFill>
                <a:latin typeface="Tahoma"/>
              </a:rPr>
              <a:t>Куда бы вы предпочли перевестис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90520" y="1905120"/>
          <a:ext cx="257184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0520" y="1905120"/>
                    <a:ext cx="2571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694480" y="1905120"/>
          <a:ext cx="1944720" cy="19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4480" y="1905120"/>
                    <a:ext cx="19447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503360" y="4038480"/>
          <a:ext cx="1944720" cy="198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03360" y="4038480"/>
                    <a:ext cx="19447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4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1916280"/>
          <a:ext cx="9144000" cy="5294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1916280"/>
                    <a:ext cx="914400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72579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c00"/>
                </a:solidFill>
                <a:latin typeface="Tahoma"/>
              </a:rPr>
              <a:t>Приложение 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620640"/>
          <a:ext cx="8713800" cy="6145200"/>
        </p:xfrm>
        <a:graphic>
          <a:graphicData uri="http://schemas.openxmlformats.org/drawingml/2006/table">
            <a:tbl>
              <a:tblPr/>
              <a:tblGrid>
                <a:gridCol w="1702080"/>
                <a:gridCol w="952200"/>
                <a:gridCol w="544680"/>
                <a:gridCol w="815760"/>
                <a:gridCol w="995400"/>
                <a:gridCol w="581040"/>
                <a:gridCol w="1597320"/>
                <a:gridCol w="871200"/>
                <a:gridCol w="654120"/>
              </a:tblGrid>
              <a:tr h="564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 собствен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ра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челов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челов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челов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2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-2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-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. или ниж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лн сред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. обще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. проф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.спец.обр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акон.высш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ше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ое высш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ционерное предпр-тие с гос. участи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2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-2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-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. или ниж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лн сред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. обще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. проф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.спец.обр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акон.высш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ше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ое высш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ое предприя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-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-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. или ниж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лн сред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. обще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. проф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.спец.обр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акон.высш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ше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ое высш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1:13:19Z</dcterms:created>
  <dc:creator>кристина</dc:creator>
  <dc:description/>
  <dc:language>en-US</dc:language>
  <cp:lastModifiedBy>кристина</cp:lastModifiedBy>
  <dcterms:modified xsi:type="dcterms:W3CDTF">2009-12-11T14:44:37Z</dcterms:modified>
  <cp:revision>6</cp:revision>
  <dc:subject/>
  <dc:title>Малышева Кристина</dc:title>
</cp:coreProperties>
</file>